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82C-A3D9-4605-B2C7-3B08E43557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B155-639E-4DF5-A66A-CCD18831AA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A7F-5B7B-42A6-AA25-573E8ED9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C50-1079-437F-9980-E5F36AF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EFB-6742-4BEA-BF07-05741527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233-4B7B-47A0-AA44-D0EC0E32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99D5E-E304-4C0C-A2C0-02E123F1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C14A4-3BC7-47F4-9DDC-3181663E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FC83E-02E1-4C91-9CC7-69074C44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2E77C-FC44-45B6-A5EA-99DA20FA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86ACB-1473-48AA-9985-A11E069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1DB79-4766-4432-9A31-99286750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4FB63-18EE-49A7-B9F1-EC76DE0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ACE-2A88-496B-96A5-ACB84249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E739-3961-448A-A1E2-12CCB072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7E159-B1D5-4FD3-867E-8A7C7A4B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4C2A6-23C0-43D8-94D0-FC9E45DF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04BD7-FAAD-437E-93BA-1364B8E6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0801F-789B-4AC7-9AA0-C7AC0EA0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26F85-AA99-43B9-8B85-8F0AD9D9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EB27C-F239-4865-B450-33C37083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4432D-944E-41C1-B2CB-85F902E8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3898B-EA67-4EB8-9519-9F0DA29E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3D3C2-77FB-4EFD-8925-0BFA51F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76A-A2D0-4344-A9C6-4BDAE9F0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16E3B-329B-4B44-80C7-BC70AA05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E7FA7-8D1D-4BF3-AD6B-69B3FC9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CEC1D-794C-4C04-B3EC-4AFFB4A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3826F-539B-4973-9B77-BA46EB2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66779-AF86-498D-9C62-1C36CDF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C9AE0-89B3-4A5C-BE28-74115ADF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E9BCE-4734-48DC-B92F-52ED035B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C42F9-D07F-4B11-9DCC-9C571527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3993-3382-459C-8C80-BC1CC7E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AF722-6D50-4AB2-A5F6-B16DA88D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C05-D557-40F7-A7E0-1CBA8B35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DD4D-E039-4160-90AC-E1FCEA18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D2312-3C8F-4CA6-B54B-3B8D6EBF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73C9-0036-4B98-932B-486C06E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69FC-FD4C-40AE-A4C9-176CD0D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91EC-A648-403B-A878-C9FF380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FA70-858B-4B32-AB4B-BE16F59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499F-42A3-4C2E-9C62-BEF36457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CBE26-DDAC-41F8-AED4-C7BBAAD8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795CA-8176-4B9A-B916-B54D9804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0BCC3-9D39-4611-9DA8-E67C19C7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4C2-0270-44FF-83CC-2C4AD5E8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952F2-A4CA-4B62-ADDC-7C088730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4512-B548-4AED-BDD1-988ADC8B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5F5A-F7C6-4A0A-A3F8-1744AA26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7AD90-7178-43D1-868C-7CE43AB8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BD0F-7BB5-4C11-9DCC-3D9CC16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E04A-0064-415A-B70C-30DCFCD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5411E-C5B3-408A-85FF-9AA6AC52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C23E-7130-4032-9814-C5D0612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4427-47D0-4918-9D51-7448ED87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7ADC-21AF-446F-8D49-8D371AEB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ABA-56CC-4924-825D-D156810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C95AE-2F62-4ED2-942B-F6B728D0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0A2A1-5295-4960-94F2-50FAD785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8F93-E5B4-4C04-9B2F-BCBAE865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8588E-2DAF-43DB-94BC-AA361326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C1B8F-55A3-42F6-A4BC-B617E80F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3B59D-0CB0-4E76-A655-57A3058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874BC-5813-48FA-804D-6A4F03BB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4FD3E-9B22-4FA0-A03B-0FF3A028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1710C-C704-4447-A0BA-A9906DD4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6FE0-9CB8-451F-A53B-7516C4F5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6D0-ED53-41D9-B54A-D4ABEBA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66AE-789B-4CB5-813F-DA1188E3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46F6-819C-4E4C-AD42-F6EC66F6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9355-44E3-4877-BD37-FB53BC43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3F47-E49D-4BD2-881E-7DBBF9F3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321C-19AE-4E3E-BDAF-F8C0E7CE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341A-DA32-4086-A979-FB2EBD8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125B0-ADF0-4D63-BE16-5D66CA1F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DE08-2035-43E9-809C-422106B3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1F96-D438-4F97-94FC-A99439E4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819C1-0B09-44D4-A27A-DA84B66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FBE-98E2-41F1-8090-C2BF3C55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11C89-7C42-4AAA-B3F7-9D8C9AB5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4B8B3-4FE5-4399-A5C5-96D9D44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7A8EB-8584-441A-8FA8-04410745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A80E6-1ED2-4C36-B701-E135953C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6E882-51DD-439F-9645-5149D0A6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6BD-D913-40B1-8503-70115F4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E191-8E4C-43B3-90D7-B9E67E836F1A}" type="slidenum">
              <a:rPr b="0" lang="en-A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HHD12_bnr.jpg"/>
          <p:cNvPicPr/>
          <p:nvPr/>
        </p:nvPicPr>
        <p:blipFill>
          <a:blip r:embed="rId2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FFE4-919D-4213-A573-106096C60724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E35F-EED9-4313-9431-F3212EF90414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414C-A838-4322-80D7-9C150B651695}" type="slidenum">
              <a:rPr b="0" lang="en-A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A99-192F-4B2F-8E71-269AE92AB572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7A64-F994-4203-88BC-E948C3529BAC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B1AE-1EF9-4C9C-9BF7-6E8829D99D87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Franklin Gothic Medium"/>
              </a:rPr>
              <a:t>Chapter 2: Understanding Youth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ranklin Gothic Medium"/>
              </a:rPr>
              <a:t>AREA OF STUDY 2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Franklin Gothic Medium"/>
              </a:rPr>
              <a:t>YOUTH HEALTH AND DEVELOPMENT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360"/>
            <a:ext cx="840744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riod of the human lifespan between the ages of 12 and 18 years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 transition between childhood and adulthood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ther words for youth include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teenager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adolescents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Early Youth: age 12-14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Middle Youth: age 15-16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Late Youth: age 17-18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DEFINING YOUTH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Franklin Gothic Medium"/>
              </a:rPr>
              <a:t>PAGE 30-33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44960" cy="5165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324000" y="79704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What experiences have you had so far that signify you are experiencing a transition phase from childhood to adulth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Medium"/>
              </a:rPr>
              <a:t>Many changes occur during youth</a:t>
            </a:r>
            <a:r>
              <a:rPr b="0" lang="en-AU" sz="3200" spc="-1" strike="noStrike">
                <a:solidFill>
                  <a:srgbClr val="00b0f0"/>
                </a:solidFill>
                <a:latin typeface="Franklin Gothic Medium"/>
              </a:rPr>
              <a:t>, can you identify some of these changes?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changes that occur as part of youth development can be grouped as: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hysical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ocial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otional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ntellectual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YOUTH DEVELOPME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80" y="1989000"/>
            <a:ext cx="840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Physical development during youth is rapid, including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hange in size of bones and muscl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hange in height and weig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xual development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51"/>
              </a:spcBef>
              <a:buClr>
                <a:srgbClr val="928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imary sexual development (sex organ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51"/>
              </a:spcBef>
              <a:buClr>
                <a:srgbClr val="928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Secondary sexual development (other changes – e.g. hair, development of breasts and widening of hips in females, deepening of voice and broadening of shoulders in male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Franklin Gothic Medium"/>
              </a:rPr>
              <a:t>Activity 2.2 Questions 1-6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Franklin Gothic Medium"/>
              </a:rPr>
              <a:t>Activity 2.3 Questions 1-5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Franklin Gothic Medium"/>
              </a:rPr>
              <a:t>Homework</a:t>
            </a:r>
            <a:r>
              <a:rPr b="1" i="1" lang="en-US" sz="1800" spc="-1" strike="noStrike">
                <a:solidFill>
                  <a:srgbClr val="c00000"/>
                </a:solidFill>
                <a:latin typeface="Franklin Gothic Medium"/>
              </a:rPr>
              <a:t>: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Franklin Gothic Medium"/>
              </a:rPr>
              <a:t>Read page 38-43 and answer Activity 2.4 (pg 43-44) Questions 1-7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CHARACTERISTICS OF PHYSICAL DEVELOPMENT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PAGE 34-43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n important part of youth development is forming social relationship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er-group relationships are critical as is establishing an identity and being accepted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Franklin Gothic Medium"/>
              </a:rPr>
              <a:t>Self-esteem is a key characteristic of youth development, how might positive self esteem develop in youth? What about  negative self esteem?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34949"/>
                </a:solidFill>
                <a:latin typeface="Franklin Gothic Medium"/>
              </a:rPr>
              <a:t>Activity 2.5 (pg 46) Questions 1-6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SOCI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ccurs as an individual develops the capacity to think in broader terms, to conceptualise complex issues and to see how things are connected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Franklin Gothic Medium"/>
              </a:rPr>
              <a:t>Youth intellectual development is not only represented by academic success, how else might it be represented?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3912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INTELLECTU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 youth stage of the lifespan is characterised by individuals increasingly understanding their emotions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otional development includes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anaging changing relationship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eeting basic need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anaging grief and los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Coping with stres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6784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EMOTION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2-28T04:42:54Z</dcterms:modified>
  <cp:revision>38</cp:revision>
  <dc:subject/>
  <dc:title>Slide 1</dc:title>
</cp:coreProperties>
</file>